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E224-812E-46C0-9088-97132097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3E47-0876-4DC2-9DD5-86566007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6F78-7126-4882-B78C-51339842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040E-73A9-4FC0-8760-B83E3804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630E-E4E0-4908-B600-48FAD283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30E2-F13A-40A4-A736-0A018038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1E95-326F-4FDC-BD8F-4C32CC40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3816-FC4A-44AA-BA7F-832784A7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AC9B-38D2-42D2-ACBA-2497E0C0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405C-03AE-4465-B6CA-881CB18F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B3D9-9E75-4276-A355-1F54A93A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4E65-E074-4196-9B5D-8443292D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77E0-97A9-4BF1-AA8C-90D3D55FC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24720" y="4133880"/>
            <a:ext cx="1114560" cy="1104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ardfat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BO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7040" y="154296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rude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BO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1514520"/>
            <a:ext cx="23050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0" y="15145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71840" y="2238480"/>
            <a:ext cx="3906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143920" y="1657440"/>
            <a:ext cx="485640" cy="48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43920" y="2143080"/>
            <a:ext cx="495360" cy="476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77320" y="2590920"/>
            <a:ext cx="637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ofte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71840" y="1952640"/>
            <a:ext cx="199800" cy="190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38400" y="1943280"/>
            <a:ext cx="228600" cy="218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000160"/>
            <a:ext cx="85680" cy="8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81240" y="1905120"/>
            <a:ext cx="1123920" cy="29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29560" y="1523880"/>
            <a:ext cx="1114200" cy="110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oft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19400" y="15145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86360" y="15145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52960" y="15145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15145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1943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43040" y="2600280"/>
            <a:ext cx="495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atch R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95880" y="2038320"/>
            <a:ext cx="714240" cy="723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Degum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BO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tor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0" y="2514600"/>
            <a:ext cx="171360" cy="171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1523880"/>
            <a:ext cx="18576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10120" y="15238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67360" y="15238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33960" y="15145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00560" y="15238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153360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05320" y="1914480"/>
            <a:ext cx="1276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53200" y="2028960"/>
            <a:ext cx="85680" cy="8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10240" y="1981080"/>
            <a:ext cx="19044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2295360"/>
            <a:ext cx="133560" cy="133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77000" y="2295360"/>
            <a:ext cx="133200" cy="133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2657520"/>
            <a:ext cx="133560" cy="13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236232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ix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48480" y="2657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2647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ent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2743200"/>
            <a:ext cx="58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Vacuum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48400" y="3000240"/>
            <a:ext cx="30492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15200" y="3276720"/>
            <a:ext cx="6667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Vacuum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Vess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43760" y="3200400"/>
            <a:ext cx="714600" cy="723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Refined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BO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tor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7040" y="3438360"/>
            <a:ext cx="981360" cy="10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o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00800" y="4467240"/>
            <a:ext cx="361800" cy="36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80060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rocessing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2760" y="3828960"/>
            <a:ext cx="828720" cy="8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tereste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BO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76680" y="4019400"/>
            <a:ext cx="390600" cy="39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48160" y="4029120"/>
            <a:ext cx="390600" cy="39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3753000"/>
            <a:ext cx="247680" cy="237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67200" y="3753000"/>
            <a:ext cx="247680" cy="237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05480" y="4286160"/>
            <a:ext cx="228600" cy="209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396252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teresterification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14640" y="4838760"/>
            <a:ext cx="18576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71880" y="48387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482904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05440" y="48387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62320" y="48387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29280" y="48387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05480" y="4600440"/>
            <a:ext cx="209520" cy="190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43480" y="4562640"/>
            <a:ext cx="428760" cy="27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86280" y="4419720"/>
            <a:ext cx="390600" cy="39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4381560"/>
            <a:ext cx="49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ent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438156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ent-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371484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ix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4760" y="2486160"/>
            <a:ext cx="253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5200" y="23623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31920" y="30481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1295280"/>
            <a:ext cx="88394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1295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647960" y="1066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52280" y="50288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21:44:58Z</dcterms:created>
  <dc:creator>Travis</dc:creator>
  <dc:description/>
  <dc:language>en-US</dc:language>
  <cp:lastModifiedBy>Travis</cp:lastModifiedBy>
  <dcterms:modified xsi:type="dcterms:W3CDTF">2010-04-04T23:53:51Z</dcterms:modified>
  <cp:revision>3</cp:revision>
  <dc:subject/>
  <dc:title>Slide 1</dc:title>
</cp:coreProperties>
</file>